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210-B0F7-42A6-9696-394127DE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38B-96E6-4E94-BCD2-65061B35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009-88FE-44E1-A1D1-FE073825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135-87CA-4E81-BBC9-4CD88431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484-FA45-4F16-937D-9525F3CC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0A0-3E70-4F71-A8B7-0A8BF5C0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ED9-C53C-4225-AB00-730F838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EF7-C216-4D00-B1C5-83518EC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66A-A162-4C07-A869-8FAB1D27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6B8-C66F-4C87-AADA-38A34C35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21A-6935-4E80-BA6C-A15B572D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B7E-F603-4359-B314-4507E407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F853-810A-405B-914A-00EE3C013A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987480" y="658800"/>
            <a:ext cx="5835600" cy="4532400"/>
          </a:xfrm>
          <a:prstGeom prst="pi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5"/>
          <p:cNvSpPr/>
          <p:nvPr/>
        </p:nvSpPr>
        <p:spPr>
          <a:xfrm>
            <a:off x="785880" y="714240"/>
            <a:ext cx="42840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6"/>
          <p:cNvSpPr/>
          <p:nvPr/>
        </p:nvSpPr>
        <p:spPr>
          <a:xfrm>
            <a:off x="785880" y="714240"/>
            <a:ext cx="42840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785880" y="714240"/>
            <a:ext cx="42840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8"/>
          <p:cNvSpPr/>
          <p:nvPr/>
        </p:nvSpPr>
        <p:spPr>
          <a:xfrm>
            <a:off x="785880" y="714240"/>
            <a:ext cx="42840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40741E-006 C 0.01025 -0.01041 0.0205 -0.02083 0.0481 -0.01597 C 0.0757 -0.01111 0.1323 0.00672 0.16598 0.0294 C 0.19966 0.05209 0.23404 0.10024 0.25001 0.11991 C 0.26598 0.13959 0.27067 0.09792 0.26199 0.14676 C 0.25331 0.19561 0.20036 0.35394 0.1981 0.41343 C 0.19584 0.47292 0.21216 0.47547 0.2481 0.50394 C 0.28404 0.53241 0.36181 0.56899 0.41407 0.58403 C 0.46633 0.59908 0.5297 0.60718 0.56199 0.59468 C 0.59428 0.58218 0.60574 0.54838 0.608 0.50926 C 0.61025 0.47014 0.59376 0.42385 0.57605 0.35996 C 0.55834 0.29607 0.53022 0.21065 0.50209 0.12524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83333E-006 7.40741E-006 C 0.01025 -0.01041 0.0205 -0.02083 0.0481 -0.01597 C 0.0757 -0.01111 0.1323 0.00672 0.16598 0.0294 C 0.19966 0.05209 0.23404 0.10024 0.25001 0.11991 C 0.26598 0.13959 0.27067 0.09792 0.26199 0.14676 C 0.25331 0.19561 0.20036 0.35394 0.1981 0.41343 C 0.19584 0.47292 0.21216 0.47547 0.2481 0.50394 C 0.28404 0.53241 0.36181 0.56899 0.41407 0.58403 C 0.46633 0.59908 0.5297 0.60718 0.56199 0.59468 C 0.59428 0.58218 0.60574 0.54838 0.608 0.50926 C 0.61025 0.47014 0.59376 0.42385 0.57605 0.35996 C 0.55834 0.29607 0.53022 0.21065 0.50209 0.12524 E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83333E-006 7.40741E-006 C 0.01025 -0.01041 0.0205 -0.02083 0.0481 -0.01597 C 0.0757 -0.01111 0.1323 0.00672 0.16598 0.0294 C 0.19966 0.05209 0.23404 0.10024 0.25001 0.11991 C 0.26598 0.13959 0.27067 0.09792 0.26199 0.14676 C 0.25331 0.19561 0.20036 0.35394 0.1981 0.41343 C 0.19584 0.47292 0.21216 0.47547 0.2481 0.50394 C 0.28404 0.53241 0.36181 0.56899 0.41407 0.58403 C 0.46633 0.59908 0.5297 0.60718 0.56199 0.59468 C 0.59428 0.58218 0.60574 0.54838 0.608 0.50926 C 0.61025 0.47014 0.59376 0.42385 0.57605 0.35996 C 0.55834 0.29607 0.53022 0.21065 0.50209 0.12524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83333E-006 7.40741E-006 C 0.01025 -0.01041 0.0205 -0.02083 0.0481 -0.01597 C 0.0757 -0.01111 0.1323 0.00672 0.16598 0.0294 C 0.19966 0.05209 0.23404 0.10024 0.25001 0.11991 C 0.26598 0.13959 0.27067 0.09792 0.26199 0.14676 C 0.25331 0.19561 0.20036 0.35394 0.1981 0.41343 C 0.19584 0.47292 0.21216 0.47547 0.2481 0.50394 C 0.28404 0.53241 0.36181 0.56899 0.41407 0.58403 C 0.46633 0.59908 0.5297 0.60718 0.56199 0.59468 C 0.59428 0.58218 0.60574 0.54838 0.608 0.50926 C 0.61025 0.47014 0.59376 0.42385 0.57605 0.35996 C 0.55834 0.29607 0.53022 0.21065 0.50209 0.12524 E"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06:57Z</dcterms:created>
  <dc:creator>John Wilson</dc:creator>
  <dc:description/>
  <dc:language>en-US</dc:language>
  <cp:lastModifiedBy>John Wilson</cp:lastModifiedBy>
  <dcterms:modified xsi:type="dcterms:W3CDTF">2007-10-22T13:13:47Z</dcterms:modified>
  <cp:revision>1</cp:revision>
  <dc:subject/>
  <dc:title>Slide 1</dc:title>
</cp:coreProperties>
</file>